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9688-EF36-4026-A6A4-A76E8737C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9882-342C-41C8-81C0-078F7250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9303-6101-4864-B483-A0A970F4E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FBBE-5F86-4F4A-A226-39B224DB0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AEE7-AC77-4255-A95A-EDDF967D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5F9B-BE9B-46AE-8F19-73FB2A9D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663D-20B7-42B3-AF78-7AB11869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A84B-0368-484F-962C-F3AA9728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EE1F-E844-47B9-BAF8-3DDE1427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248D-7622-4481-B046-F6172BAA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F85A-17C0-4F71-A70A-A916A02E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418B-6E6A-4659-9F6B-29BA3BC3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DBAE-1538-4324-A8B3-65C14F943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042920" y="-892080"/>
            <a:ext cx="748656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Unit 1 </a:t>
            </a:r>
            <a:endParaRPr b="1" lang="en-US" sz="4800" spc="1" strike="noStrike">
              <a:ln w="9360">
                <a:solidFill>
                  <a:srgbClr val="0099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Where did you go on vacation?</a:t>
            </a:r>
            <a:endParaRPr b="1" lang="en-US" sz="4800" spc="1" strike="noStrike">
              <a:ln w="9360">
                <a:solidFill>
                  <a:srgbClr val="0099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476360" y="1989000"/>
            <a:ext cx="6913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07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99"/>
                </a:solidFill>
                <a:latin typeface="Arial"/>
              </a:rPr>
              <a:t>Section A 2</a:t>
            </a:r>
            <a:endParaRPr b="1" lang="en-US" sz="4800" spc="1" strike="noStrike">
              <a:ln w="12600">
                <a:solidFill>
                  <a:srgbClr val="b2b2b2"/>
                </a:solidFill>
                <a:miter/>
              </a:ln>
              <a:solidFill>
                <a:srgbClr val="cc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99"/>
                </a:solidFill>
                <a:latin typeface="Arial"/>
              </a:rPr>
              <a:t>Grammar focus-3c</a:t>
            </a:r>
            <a:endParaRPr b="1" lang="en-US" sz="4800" spc="1" strike="noStrike">
              <a:ln w="12600">
                <a:solidFill>
                  <a:srgbClr val="b2b2b2"/>
                </a:solidFill>
                <a:miter/>
              </a:ln>
              <a:solidFill>
                <a:srgbClr val="cc0099"/>
              </a:solidFill>
              <a:latin typeface="Arial"/>
              <a:ea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5737680" y="5013360"/>
            <a:ext cx="2977200" cy="1556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 We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1&amp; Class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ly 2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201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395280" y="333360"/>
          <a:ext cx="8424720" cy="5973840"/>
        </p:xfrm>
        <a:graphic>
          <a:graphicData uri="http://schemas.openxmlformats.org/drawingml/2006/table">
            <a:tbl>
              <a:tblPr/>
              <a:tblGrid>
                <a:gridCol w="2324160"/>
                <a:gridCol w="2406600"/>
                <a:gridCol w="3693960"/>
              </a:tblGrid>
              <a:tr h="112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复合不定代词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用法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例句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71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veryone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用于肯定句、否定句及疑问句中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Everyone</a:t>
                      </a: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s here today.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Everyone</a:t>
                      </a: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doesn’t like the food here.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</a:t>
                      </a:r>
                      <a:r>
                        <a:rPr b="1" lang="en-US" sz="3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everyone</a:t>
                      </a: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n your class go for a trip?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1129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 one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常用于否定句中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No one</a:t>
                      </a: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wants to walk to the zoo.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5"/>
          <p:cNvSpPr/>
          <p:nvPr/>
        </p:nvSpPr>
        <p:spPr>
          <a:xfrm>
            <a:off x="468360" y="974880"/>
            <a:ext cx="849636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t’s do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omething interest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当形容词修饰不定代词时，应放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其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面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后面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3600" spc="-1" strike="noStrike">
                <a:solidFill>
                  <a:srgbClr val="9900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1" lang="en-US" sz="36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本书里有什么新东西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 there _________ _____ in this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ok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今天没有什么特别的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re’s _________ _______ tod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3059280" y="3645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nything   n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060720" y="558972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nothing     spec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697320" y="404280"/>
            <a:ext cx="126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Times New Roman"/>
              </a:rPr>
              <a:t>【</a:t>
            </a: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注意</a:t>
            </a:r>
            <a:r>
              <a:rPr b="1" lang="en-US" sz="3600" spc="-1" strike="noStrike">
                <a:solidFill>
                  <a:srgbClr val="cc00cc"/>
                </a:solidFill>
                <a:latin typeface="Times New Roman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1302120" y="2359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后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8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4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7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0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5"/>
          <p:cNvSpPr/>
          <p:nvPr/>
        </p:nvSpPr>
        <p:spPr>
          <a:xfrm>
            <a:off x="250920" y="44280"/>
            <a:ext cx="864216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veryon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n this villag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i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friend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Nobod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know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what the future will be lik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复合不定代词作主语时，都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单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复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看待，其谓语动词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式。</a:t>
            </a:r>
            <a:r>
              <a:rPr b="1" lang="zh-CN" sz="3600" spc="-1" strike="noStrike">
                <a:solidFill>
                  <a:srgbClr val="00b05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1" lang="en-US" sz="36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ometh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____ (is/are) wrong with m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t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的手表出了点毛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ll,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veryon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(want) to w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的，每个人都想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6222600" y="20606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单数第三人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6558480" y="1411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单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292560" y="34290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4285440" y="538020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7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0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3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6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9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5"/>
          <p:cNvSpPr/>
          <p:nvPr/>
        </p:nvSpPr>
        <p:spPr>
          <a:xfrm>
            <a:off x="539640" y="1268280"/>
            <a:ext cx="80647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omething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也可用于期望得到对方肯定回答的疑问句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.g. Would you lik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ometh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o drin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除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 one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以外，其他复合不定代词都写成一个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5"/>
          <p:cNvSpPr/>
          <p:nvPr/>
        </p:nvSpPr>
        <p:spPr>
          <a:xfrm>
            <a:off x="324000" y="333360"/>
            <a:ext cx="849600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根据各题后括号内的要求完成下列各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I went to the supermarket to buy something.  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改为一般疑问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She wants someone to help her.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改为否定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771480" y="2293920"/>
            <a:ext cx="81932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id you go to the supermarket to buy anyth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827280" y="5084280"/>
            <a:ext cx="7358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he doesn’t want anyone to help 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8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1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5"/>
          <p:cNvSpPr/>
          <p:nvPr/>
        </p:nvSpPr>
        <p:spPr>
          <a:xfrm>
            <a:off x="324000" y="1598760"/>
            <a:ext cx="8496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He did nothing yesterday morning.  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改为同义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77440" y="3109320"/>
            <a:ext cx="83858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e didn’t do anything yesterday mor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Oval 2"/>
          <p:cNvSpPr/>
          <p:nvPr/>
        </p:nvSpPr>
        <p:spPr>
          <a:xfrm>
            <a:off x="324000" y="1052640"/>
            <a:ext cx="86328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WordArt 4"/>
          <p:cNvSpPr txBox="1"/>
          <p:nvPr/>
        </p:nvSpPr>
        <p:spPr>
          <a:xfrm>
            <a:off x="2916360" y="136440"/>
            <a:ext cx="30240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25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3399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Practice</a:t>
            </a:r>
            <a:endParaRPr b="1" lang="en-US" sz="4000" spc="1" strike="noStrike">
              <a:ln w="19080">
                <a:solidFill>
                  <a:srgbClr val="3399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1403280" y="836640"/>
            <a:ext cx="7416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Fill in the blanks with the words in the box and practice the conversation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324000" y="3843720"/>
            <a:ext cx="84232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方法指导：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首先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，应通读对话，掌握短文大意；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其次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，回顾一下复合不定代词的用法。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然后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，仔细阅读每个句子，根据空格前后的词语进行推敲。比如，第一句话是一个一般疑问句，空格前有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一词，可知空格处应填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anything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一词，意为“做什么事情”。其他类似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5"/>
          <p:cNvSpPr/>
          <p:nvPr/>
        </p:nvSpPr>
        <p:spPr>
          <a:xfrm>
            <a:off x="755640" y="465120"/>
            <a:ext cx="8137440" cy="1335960"/>
          </a:xfrm>
          <a:prstGeom prst="rect">
            <a:avLst/>
          </a:prstGeom>
          <a:solidFill>
            <a:srgbClr val="ffff99">
              <a:alpha val="71000"/>
            </a:srgbClr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anyone, something, anything, everything, noth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95280" y="1976400"/>
            <a:ext cx="842472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Lind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Did you do _________ fun on you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acation, Alic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Times New Roman"/>
              </a:rPr>
              <a:t>Alic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Yes, I did. I went to Sany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Lind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How did you like it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Times New Roman"/>
              </a:rPr>
              <a:t>Alic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Well, it was my first time there, s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 was really interesting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1"/>
          <p:cNvSpPr/>
          <p:nvPr/>
        </p:nvSpPr>
        <p:spPr>
          <a:xfrm>
            <a:off x="4140360" y="198432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yt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1"/>
          <p:cNvSpPr/>
          <p:nvPr/>
        </p:nvSpPr>
        <p:spPr>
          <a:xfrm>
            <a:off x="1692360" y="5300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veryt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5"/>
          <p:cNvSpPr/>
          <p:nvPr/>
        </p:nvSpPr>
        <p:spPr>
          <a:xfrm>
            <a:off x="324000" y="1976400"/>
            <a:ext cx="842472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Times New Roman"/>
              </a:rPr>
              <a:t>Lind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Did you go with ________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Times New Roman"/>
              </a:rPr>
              <a:t>Alic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Yes, I did. I went with my sist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Lind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Did you go shopping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Times New Roman"/>
              </a:rPr>
              <a:t>Alic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Of course! I bought _________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 my parents, but _________ f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yself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5076720" y="19875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y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684360" y="536400"/>
            <a:ext cx="8137440" cy="1335960"/>
          </a:xfrm>
          <a:prstGeom prst="rect">
            <a:avLst/>
          </a:prstGeom>
          <a:solidFill>
            <a:srgbClr val="ffff99">
              <a:alpha val="71000"/>
            </a:srgbClr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anyone, something, anything, everything, noth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1"/>
          <p:cNvSpPr/>
          <p:nvPr/>
        </p:nvSpPr>
        <p:spPr>
          <a:xfrm>
            <a:off x="5508720" y="40719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omet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5653080" y="47322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5"/>
          <p:cNvSpPr/>
          <p:nvPr/>
        </p:nvSpPr>
        <p:spPr>
          <a:xfrm>
            <a:off x="252360" y="2440080"/>
            <a:ext cx="85676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Lind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Why didn’t you buy ________ for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rself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Times New Roman"/>
              </a:rPr>
              <a:t>Alic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I didn’t really see _________ I lik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5219640" y="37418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yt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4"/>
          <p:cNvSpPr/>
          <p:nvPr/>
        </p:nvSpPr>
        <p:spPr>
          <a:xfrm>
            <a:off x="5724360" y="24526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yt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539640" y="939960"/>
            <a:ext cx="8137800" cy="1335960"/>
          </a:xfrm>
          <a:prstGeom prst="rect">
            <a:avLst/>
          </a:prstGeom>
          <a:solidFill>
            <a:srgbClr val="ffff99">
              <a:alpha val="71000"/>
            </a:srgbClr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anyone, something, anything, everything, noth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1"/>
          <p:cNvSpPr/>
          <p:nvPr/>
        </p:nvSpPr>
        <p:spPr>
          <a:xfrm>
            <a:off x="468360" y="2897280"/>
            <a:ext cx="7848720" cy="29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去了什么地方度假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 _____ you go on ________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去了纽约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_____ ____ New York C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2124000" y="476280"/>
            <a:ext cx="4681440" cy="133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Grammar focu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5724360" y="365112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va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900000" y="3645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here    di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260360" y="49928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ent    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468360" y="1960560"/>
            <a:ext cx="6696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根据课本内容，完成下列句子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5"/>
          <p:cNvSpPr/>
          <p:nvPr/>
        </p:nvSpPr>
        <p:spPr>
          <a:xfrm>
            <a:off x="468360" y="2338560"/>
            <a:ext cx="8207280" cy="1439640"/>
          </a:xfrm>
          <a:prstGeom prst="rect">
            <a:avLst/>
          </a:prstGeom>
          <a:solidFill>
            <a:srgbClr val="ccffcc">
              <a:alpha val="57000"/>
            </a:srgbClr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anything, everything, nothing, everyone, no one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1476360" y="333360"/>
            <a:ext cx="705636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Fill in the blanks in the e-mail message with the words in the box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2"/>
          <p:cNvSpPr/>
          <p:nvPr/>
        </p:nvSpPr>
        <p:spPr>
          <a:xfrm>
            <a:off x="250920" y="620640"/>
            <a:ext cx="89856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539640" y="3797280"/>
            <a:ext cx="806292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ar Bill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was your vacation? Did you do ________ interesting? Did _______ in the family go with you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611280" y="51642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yt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5796000" y="5157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y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5"/>
          <p:cNvSpPr/>
          <p:nvPr/>
        </p:nvSpPr>
        <p:spPr>
          <a:xfrm>
            <a:off x="324000" y="1486080"/>
            <a:ext cx="8497800" cy="51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went to a friend’s farm in the countryside with my family. __________ was great. We fed some hens and saw some baby pigs. They were so cute! The only problem was that there was _______ much to do in the evening but read. Still ______ seemed to be bored. Bye for now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0"/>
          <p:cNvSpPr/>
          <p:nvPr/>
        </p:nvSpPr>
        <p:spPr>
          <a:xfrm>
            <a:off x="5940360" y="2133720"/>
            <a:ext cx="25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veryt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68360" y="189000"/>
            <a:ext cx="8207280" cy="1284120"/>
          </a:xfrm>
          <a:prstGeom prst="rect">
            <a:avLst/>
          </a:prstGeom>
          <a:solidFill>
            <a:srgbClr val="ccffcc">
              <a:alpha val="57000"/>
            </a:srgbClr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anything, everything, nothing, everyone, no one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6804000" y="40114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250920" y="530064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 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2268360" y="404640"/>
            <a:ext cx="4105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Language points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177840" y="1125360"/>
            <a:ext cx="878508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yself 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我自己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ourself 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你自己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是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身代词。表示“某人自己的词”叫反身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词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见下表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4920" y="3191040"/>
          <a:ext cx="9036000" cy="3119400"/>
        </p:xfrm>
        <a:graphic>
          <a:graphicData uri="http://schemas.openxmlformats.org/drawingml/2006/table">
            <a:tbl>
              <a:tblPr/>
              <a:tblGrid>
                <a:gridCol w="2182680"/>
                <a:gridCol w="2352960"/>
                <a:gridCol w="1657080"/>
                <a:gridCol w="1638360"/>
                <a:gridCol w="1204920"/>
              </a:tblGrid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myself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yourself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himself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herself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itself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我自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你自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他自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她自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它自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ourselv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yourselv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themselv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我们自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你们自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他们自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circle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2"/>
          <p:cNvSpPr/>
          <p:nvPr/>
        </p:nvSpPr>
        <p:spPr>
          <a:xfrm>
            <a:off x="250920" y="262080"/>
            <a:ext cx="8748720" cy="61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1360" indent="-441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Did you buy anything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ourself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你为你自己买什么东西了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做介词宾语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The old man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aught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imself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lish.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那位老人自学英语。（做动词宾语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he th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tsel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s not importan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事情本身并不重要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做同位语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yself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ted my aunt last weeken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上周我自己去拜访了姑姑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做同位语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0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395280" y="620640"/>
            <a:ext cx="828036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How did you like i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   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句型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ow ... sb. like ...?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与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hat ... sb. think of ...?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同义，意为“某人觉得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怎么样？”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How do you lik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he TV show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hat do you think o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he TV sho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觉得这个电视节目怎么样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466560" y="260280"/>
            <a:ext cx="813780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Still no on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eemed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be bored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eem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意为“好像；似乎；看来”，其主要用法如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◆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eem+(to be)+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dj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movi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eems (to be) interest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部电影似乎很有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◆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eem to do sth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y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eems to know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nothing about it.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个男孩似乎对它一无所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539640" y="1289160"/>
            <a:ext cx="81360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◆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 seems that ..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It seems tha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Mr. Zhang is at hom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张先生好像在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0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24000" y="312840"/>
            <a:ext cx="8604000" cy="61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据汉语意思完成英语句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儿的衣服似乎很贵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clothes here ___________ very expensiv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们似乎周六要去上海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y seem _______ to Shanghai on Saturd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好像今天她要开车去上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 she’ll drive to work tod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4213440" y="1483920"/>
            <a:ext cx="22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eem to b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3178440" y="328392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 go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901080" y="5157360"/>
            <a:ext cx="278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 seems tha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nodeType="clickEffect" fill="hold">
                      <p:stCondLst>
                        <p:cond delay="0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5"/>
          <p:cNvSpPr/>
          <p:nvPr/>
        </p:nvSpPr>
        <p:spPr>
          <a:xfrm>
            <a:off x="3924360" y="48420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选词填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81080" y="1268280"/>
            <a:ext cx="8675640" cy="1300680"/>
          </a:xfrm>
          <a:prstGeom prst="rect">
            <a:avLst/>
          </a:prstGeom>
          <a:solidFill>
            <a:srgbClr val="ffff99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mething, anyone, everything, anything,  nothing, someone, no one, everyone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42920" y="2624040"/>
            <a:ext cx="8821800" cy="404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 found Mr. Li’s keys and gave them back to him yesterday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─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d you see _________ in the big box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─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, I didn’t. There’s _______ in it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 helped the little boy. He did it himself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0"/>
          <p:cNvSpPr/>
          <p:nvPr/>
        </p:nvSpPr>
        <p:spPr>
          <a:xfrm>
            <a:off x="5146560" y="470700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755640" y="2708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me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4"/>
          <p:cNvSpPr/>
          <p:nvPr/>
        </p:nvSpPr>
        <p:spPr>
          <a:xfrm>
            <a:off x="826920" y="5354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 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3562200" y="4059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yt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WordArt 4"/>
          <p:cNvSpPr txBox="1"/>
          <p:nvPr/>
        </p:nvSpPr>
        <p:spPr>
          <a:xfrm>
            <a:off x="395280" y="144360"/>
            <a:ext cx="302436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15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Exercise</a:t>
            </a:r>
            <a:endParaRPr b="1" lang="en-US" sz="4000" spc="1" strike="noStrike">
              <a:ln w="9360">
                <a:solidFill>
                  <a:srgbClr val="99cc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p:transition>
    <p:wheel spokes="1"/>
  </p:transition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5"/>
          <p:cNvSpPr/>
          <p:nvPr/>
        </p:nvSpPr>
        <p:spPr>
          <a:xfrm>
            <a:off x="250920" y="647640"/>
            <a:ext cx="8642160" cy="601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My watch doesn’t work. __________ is wrong with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─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llo, ___________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─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llo, Mr. Smith!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─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’s it going, Jac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─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eat! ___________ is going well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─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d you go to the beach wit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─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es. I went there with my cousin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9"/>
          <p:cNvSpPr/>
          <p:nvPr/>
        </p:nvSpPr>
        <p:spPr>
          <a:xfrm>
            <a:off x="1187280" y="5373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y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2700360" y="408312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veryt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1"/>
          <p:cNvSpPr/>
          <p:nvPr/>
        </p:nvSpPr>
        <p:spPr>
          <a:xfrm>
            <a:off x="2771640" y="20667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very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5651640" y="77148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met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1"/>
          <p:cNvSpPr/>
          <p:nvPr/>
        </p:nvSpPr>
        <p:spPr>
          <a:xfrm>
            <a:off x="324000" y="1235160"/>
            <a:ext cx="8496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和别的什么人一起去的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 _____ go out with _______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，没有别人在这儿。每个人都在度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. ___ _____ was her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 was on ________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1546200" y="3079800"/>
            <a:ext cx="2233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  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971640" y="3830760"/>
            <a:ext cx="2087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very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4643280" y="3830760"/>
            <a:ext cx="1944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va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900000" y="1773360"/>
            <a:ext cx="2880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id     y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5508720" y="1773360"/>
            <a:ext cx="1800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y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1"/>
          <p:cNvSpPr/>
          <p:nvPr/>
        </p:nvSpPr>
        <p:spPr>
          <a:xfrm>
            <a:off x="324000" y="907920"/>
            <a:ext cx="84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买了什么特别的东西了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 you buy ________ _______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的，我为我爸爸买了些东西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es, I _______ _________ for my fath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，我没有买什么东西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, I _______ _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780000" y="1525680"/>
            <a:ext cx="3816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ything   spec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042920" y="1484280"/>
            <a:ext cx="971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050920" y="2852640"/>
            <a:ext cx="4176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ought  somet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1979640" y="4148280"/>
            <a:ext cx="3889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ought    not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0"/>
          <p:cNvSpPr/>
          <p:nvPr/>
        </p:nvSpPr>
        <p:spPr>
          <a:xfrm>
            <a:off x="539640" y="981000"/>
            <a:ext cx="79930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吃的怎么样？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 ____ the food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所有的东西尝起来都很好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 _______ really goo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每个人都玩得很开心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 ________ have a good tim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哦，是的。一切都很棒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h, yes. ____________ was excellen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3780000" y="981000"/>
            <a:ext cx="2232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ow  w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1042920" y="2205000"/>
            <a:ext cx="3960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verything   tas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1116000" y="3494160"/>
            <a:ext cx="3311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id    every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3059280" y="4869000"/>
            <a:ext cx="2592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veryt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08000" y="2917800"/>
          <a:ext cx="8712000" cy="2959200"/>
        </p:xfrm>
        <a:graphic>
          <a:graphicData uri="http://schemas.openxmlformats.org/drawingml/2006/table">
            <a:tbl>
              <a:tblPr/>
              <a:tblGrid>
                <a:gridCol w="1595520"/>
                <a:gridCol w="2508120"/>
                <a:gridCol w="2232000"/>
                <a:gridCol w="2376360"/>
              </a:tblGrid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某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某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任何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任何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没有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没有东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每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一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WordArt 4"/>
          <p:cNvSpPr txBox="1"/>
          <p:nvPr/>
        </p:nvSpPr>
        <p:spPr>
          <a:xfrm>
            <a:off x="395280" y="345960"/>
            <a:ext cx="266400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3399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Grammar</a:t>
            </a:r>
            <a:endParaRPr b="1" lang="en-US" sz="4000" spc="1" strike="noStrike">
              <a:ln w="19080">
                <a:solidFill>
                  <a:srgbClr val="3399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16000" y="1333440"/>
            <a:ext cx="8748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imes New Roman"/>
              </a:rPr>
              <a:t>some, any, no, every</a:t>
            </a:r>
            <a:r>
              <a:rPr b="1" lang="zh-CN" sz="3600" spc="-1" strike="noStrike">
                <a:solidFill>
                  <a:srgbClr val="990099"/>
                </a:solidFill>
                <a:latin typeface="Times New Roman"/>
              </a:rPr>
              <a:t>与</a:t>
            </a:r>
            <a:r>
              <a:rPr b="1" lang="en-US" sz="3600" spc="-1" strike="noStrike">
                <a:solidFill>
                  <a:srgbClr val="990099"/>
                </a:solidFill>
                <a:latin typeface="Times New Roman"/>
              </a:rPr>
              <a:t>-one,  -thing</a:t>
            </a:r>
            <a:r>
              <a:rPr b="1" lang="zh-CN" sz="3600" spc="-1" strike="noStrike">
                <a:solidFill>
                  <a:srgbClr val="990099"/>
                </a:solidFill>
                <a:latin typeface="Times New Roman"/>
              </a:rPr>
              <a:t>可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Times New Roman"/>
              </a:rPr>
              <a:t>组成八个不定代词，他们分别是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979640" y="29894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me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3203640" y="612720"/>
            <a:ext cx="47530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复合不定代词小结：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2050920" y="3710160"/>
            <a:ext cx="22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y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2050920" y="442908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1979640" y="51498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very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6443640" y="298944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me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6516720" y="37814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y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6659640" y="450216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6588000" y="5221440"/>
            <a:ext cx="25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very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79280" y="189000"/>
          <a:ext cx="8748720" cy="6453000"/>
        </p:xfrm>
        <a:graphic>
          <a:graphicData uri="http://schemas.openxmlformats.org/drawingml/2006/table">
            <a:tbl>
              <a:tblPr/>
              <a:tblGrid>
                <a:gridCol w="2124360"/>
                <a:gridCol w="2412720"/>
                <a:gridCol w="4211640"/>
              </a:tblGrid>
              <a:tr h="112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复合不定代词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用法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例句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134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omething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常用于肯定句中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 can eat </a:t>
                      </a:r>
                      <a:r>
                        <a:rPr b="1" lang="en-US" sz="3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something</a:t>
                      </a: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first.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26258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nything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常用于否定句及疑问句中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didn’t eat </a:t>
                      </a:r>
                      <a:r>
                        <a:rPr b="1" lang="en-US" sz="3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nything</a:t>
                      </a: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for lunch.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you eat </a:t>
                      </a:r>
                      <a:r>
                        <a:rPr b="1" lang="en-US" sz="3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nything</a:t>
                      </a: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for lunch?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135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常用于肯定句中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 can take </a:t>
                      </a:r>
                      <a:r>
                        <a:rPr b="1" lang="en-US" sz="3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nything</a:t>
                      </a: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you like.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horz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24000" y="187200"/>
          <a:ext cx="8569080" cy="6492960"/>
        </p:xfrm>
        <a:graphic>
          <a:graphicData uri="http://schemas.openxmlformats.org/drawingml/2006/table">
            <a:tbl>
              <a:tblPr/>
              <a:tblGrid>
                <a:gridCol w="2197080"/>
                <a:gridCol w="2636640"/>
                <a:gridCol w="3735360"/>
              </a:tblGrid>
              <a:tr h="112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复合不定代词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用法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例句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20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verything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用于肯定句、否定句及疑问句中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 son is </a:t>
                      </a:r>
                      <a:r>
                        <a:rPr b="1" lang="en-US" sz="3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everything</a:t>
                      </a: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o her.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ey isn’t </a:t>
                      </a:r>
                      <a:r>
                        <a:rPr b="1" lang="en-US" sz="3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everything</a:t>
                      </a: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is </a:t>
                      </a:r>
                      <a:r>
                        <a:rPr b="1" lang="en-US" sz="3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everything</a:t>
                      </a: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2165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hing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用于否定句中，相当于</a:t>
                      </a: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anything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have </a:t>
                      </a:r>
                      <a:r>
                        <a:rPr b="1" lang="en-US" sz="3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nothing</a:t>
                      </a: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o say now. = I don’t have </a:t>
                      </a:r>
                      <a:r>
                        <a:rPr b="1" lang="en-US" sz="3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nything</a:t>
                      </a: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o say now.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68360" y="326880"/>
          <a:ext cx="8280360" cy="6066000"/>
        </p:xfrm>
        <a:graphic>
          <a:graphicData uri="http://schemas.openxmlformats.org/drawingml/2006/table">
            <a:tbl>
              <a:tblPr/>
              <a:tblGrid>
                <a:gridCol w="2284200"/>
                <a:gridCol w="2365560"/>
                <a:gridCol w="3630600"/>
              </a:tblGrid>
              <a:tr h="112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复合不定代词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用法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例句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1129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omeone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常用于肯定句中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saw </a:t>
                      </a:r>
                      <a:r>
                        <a:rPr b="1" lang="en-US" sz="3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someone</a:t>
                      </a: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n that room.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2682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nyone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常用于否定句及疑问句中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didn’t see </a:t>
                      </a:r>
                      <a:r>
                        <a:rPr b="1" lang="en-US" sz="3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nyone</a:t>
                      </a: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n the room.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</a:t>
                      </a:r>
                      <a:r>
                        <a:rPr b="1" lang="en-US" sz="3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nyone</a:t>
                      </a: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all me yesterday?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112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常用于肯定句中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nyone</a:t>
                      </a: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an do that.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7T02:35:29Z</dcterms:created>
  <dc:creator/>
  <dc:description/>
  <dc:language>en-US</dc:language>
  <cp:lastModifiedBy>SDWM</cp:lastModifiedBy>
  <dcterms:modified xsi:type="dcterms:W3CDTF">2018-07-28T01:15:26Z</dcterms:modified>
  <cp:revision>150</cp:revision>
  <dc:subject/>
  <dc:title>幻灯片 1</dc:title>
</cp:coreProperties>
</file>